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9F3-DE6F-45B2-919C-D97A4BAB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AC1-C6F5-4864-B3AC-2FBF017C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89B-FC73-483E-A1F7-0A599D46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CF2-4C4E-427B-96DE-037A83F0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F04-D3C4-4639-9655-D6B32B20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DED-7C66-4F5A-8D68-9BB71B13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C00-96F9-4941-9364-21B10B90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F30-1686-4686-9A37-71323605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470-2965-41AC-8080-EA5E1648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C39-8698-4703-89FF-23567795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A8A-55C7-41B0-BFFB-0F115452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546-7416-4135-8387-C162B8A8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5AE3-2055-41AD-8E10-B4B4BD93E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07920"/>
            <a:ext cx="84960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ПРОФЕССИОНАЛЬНОЕ УСОВЕРШЕНСТВОВАНИЕ И РАЗВИТИЕ УЧИТЕЛЯ ПРИ ПЕРЕХОДЕ В СИСТЕМУ 12 – ЛЕТНЕГО ОБРАЗОВАНИЯ.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797360"/>
            <a:ext cx="8820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ОСШ №3 г. Акс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сенжанова А. 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12-летней школе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нужны учителя с новым профессиональным мышлением, учителя, которые могут на практике обеспечить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вариативность и личностную ориентацию образовательного процесс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практическую деятельностную направлен -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ность образовани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завершение профессионального самоопре -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еления учащих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62064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дагогу – руководителю учебной игр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в форме исследовательской деятельности учащихся следует соблюдать следующие 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Учить детей действовать самостоя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Уклоняться от прямых инструкций, не сдерживать инициативы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Не торопиться с вынесением оценочных су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Помогать детям в процессе усвоени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Учить детей отстаивать свои идеи и     отказываться от ошибочных точек зрений, быть толерант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23088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5041800" cy="169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995640" y="3357720"/>
            <a:ext cx="482436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52916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760720" cy="234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6121440" cy="2230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492360" y="4005360"/>
            <a:ext cx="52563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836640"/>
            <a:ext cx="856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Жизнеспособность и эффектив- ность любой образовательной системы определяется профессиона-лизмом педагогических кадров и ее реальными возможностями для обеспечения качественного обра-зования,  опережающего запросы общ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620640"/>
            <a:ext cx="828036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ним из ответов становится переход к компетентностно - ориентированному образованию в 12- летней школе, специфика которого состоит в том, что она должна быть способна не только вооружать обучающего знаниями, но и формировать у него потребность в непрерывном самостоятельном и творческом подходе к овладению знаниями, создавать возможности для отработки умений и навыков самообразовани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</a:rPr>
              <a:t>Одним из основных условий профессионально- личностной готовности педагога как одного из приоритетных направлений модернизации системы образо-вания в Республике Казахстан является повышение профессио-нальной компетентности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300720" y="1844640"/>
            <a:ext cx="2505240" cy="118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773360"/>
            <a:ext cx="2504880" cy="118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189000"/>
            <a:ext cx="3240000" cy="936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60280"/>
            <a:ext cx="3024360" cy="7923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фессиональная компетент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1844640"/>
            <a:ext cx="2505240" cy="118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060640"/>
            <a:ext cx="1728720" cy="5331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бъектные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2133720"/>
            <a:ext cx="1873440" cy="576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сурсный па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1052640"/>
            <a:ext cx="1224000" cy="792000"/>
          </a:xfrm>
          <a:prstGeom prst="line">
            <a:avLst/>
          </a:prstGeom>
          <a:ln w="442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979280" y="1125360"/>
            <a:ext cx="863640" cy="648000"/>
          </a:xfrm>
          <a:prstGeom prst="line">
            <a:avLst/>
          </a:prstGeom>
          <a:ln w="442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1197000"/>
            <a:ext cx="0" cy="647640"/>
          </a:xfrm>
          <a:prstGeom prst="line">
            <a:avLst/>
          </a:prstGeom>
          <a:ln w="442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429000"/>
            <a:ext cx="316836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ессиональные знания, умения и навы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4437000"/>
            <a:ext cx="3241800" cy="1225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ессиональные компетентности, основанные на способности осуществлять ту или иную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365720"/>
            <a:ext cx="4321080" cy="1439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дагог - профессионал, выражающийся в умении ставить цели и решать задачи своей профессиональной деятельности, выбирать тактику и стратегию профессионального по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133720"/>
            <a:ext cx="1873080" cy="576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292428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997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667280" y="2997360"/>
            <a:ext cx="7308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333360"/>
            <a:ext cx="8785440" cy="56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Теоретическая готовнос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составлять рабочие учебные программы по предмету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разрабатывать индивидуальные образовательные программы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строить логику преподавания предмета, исходящую из потребностей и возможностей учащихс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рогнозировать трудности, определять причины и пути их исправле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проектировать образовательный процесс, направленный н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. максимальную индивидуализацию обуче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. усиление творческого, самостоятельного начала в деятельности учащихся на урок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. развитие проектной деятельности обучающих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89000"/>
            <a:ext cx="8640720" cy="59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Практическая готовнос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использовать разнообразные виды и формы организации деятельности учащихся в учебном процессе (рост удельного веса проектных, исследовательских, индивидуальных и групповых форм деятельности, введение социальной практики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стимулировать самостоятельную работу с различными источниками информации и базами данны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использовать в учебном процессе возможности информационных технологий для открытого образова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организовывать совместную творческую деятельность, направленную на развитие социально значимых качеств личност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формировать у обучающихся опыт ответственности выбора и ответственной деятельности, опыт самоорганизац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836640"/>
            <a:ext cx="8497800" cy="44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Мотивационная готовнос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формировать устойчивую мотивацию профессионального саморазвития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обновлять профессиональные знания и совершенствовать педагогические умения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- переносить полученные знания в новые условия педагогической деятельност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bd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3:26:16Z</dcterms:created>
  <dc:creator>User</dc:creator>
  <dc:description/>
  <dc:language>en-US</dc:language>
  <cp:lastModifiedBy>REM</cp:lastModifiedBy>
  <dcterms:modified xsi:type="dcterms:W3CDTF">2009-02-23T20:01:55Z</dcterms:modified>
  <cp:revision>21</cp:revision>
  <dc:subject/>
  <dc:title>Слайд 1</dc:title>
</cp:coreProperties>
</file>